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65D-7F5B-49A1-A247-91357343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0EB-26F2-402C-9C2A-570562D1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7AC-E186-4151-8BBF-88989EAF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E50-D33E-47BF-8586-54B38B3B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F89-B9A9-4AD3-BC58-2B43C0C6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E9E-4487-4C47-9F9A-51D11E0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EAC-AB3C-48A9-B097-D053B355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5DD-CB19-4988-9A1E-3EDF9BE8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42C-76A0-4BC6-A03F-BC03704C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17C-2F0E-4C4E-9EB3-05158C46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87E-97A7-4168-8B22-1DD258D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4EA-EE0D-4211-B58B-16B5782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1EF0-9308-439F-810C-80191D83F94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LETNO PORO</a:t>
            </a:r>
            <a:r>
              <a:rPr b="0" lang="sl-SI" sz="3200" spc="-1" strike="noStrike">
                <a:solidFill>
                  <a:srgbClr val="92d050"/>
                </a:solidFill>
                <a:latin typeface="Arial"/>
              </a:rPr>
              <a:t>Č</a:t>
            </a: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LO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PERATIVNI PROGRAM RAZV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OKOLJSKE IN PROMET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INFRASTRUK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2d050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maj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1565280" y="102564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jeZBesedilom 2"/>
          <p:cNvSpPr/>
          <p:nvPr/>
        </p:nvSpPr>
        <p:spPr>
          <a:xfrm>
            <a:off x="1038240" y="178596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i SKLEPI EK za 3 VELIKE PROJE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-   Rekonstrukcija, elektrifikacija in nadgradnja železniške proge Pragersko-Hodoš – 1. Fa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onstrukcije, elektrifikacije in nadgradnje železniške proge Pragersko-Hodoš – 2. faza – Modernizacija nivojskih prehodov in izvedba podhodov na postaj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vedba sistema GSM-R na slovenskem železniškem omrež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jeZBesedilom 2"/>
          <p:cNvSpPr/>
          <p:nvPr/>
        </p:nvSpPr>
        <p:spPr>
          <a:xfrm>
            <a:off x="1038240" y="1832040"/>
            <a:ext cx="69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DATNE pravice porabe oz. overcommitm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Izdane odločbe v </a:t>
            </a:r>
            <a:r>
              <a:rPr b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višini 250 mio EUR EU 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Parkiraj in pelji se“ – 8 mio EUR na R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bvoznica Ilirska Bistrica in izven nivojsko križanje OBJN Zgornji Log – 18 mio EUR na R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4 okoljskih projektov – 182 mio EUR na RP 5 – Področje 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vni razpis „Energetska sanacija stavb v lasti lokalnih skupnosti“ – 42,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oljeZBesedilom 2"/>
          <p:cNvSpPr/>
          <p:nvPr/>
        </p:nvSpPr>
        <p:spPr>
          <a:xfrm>
            <a:off x="1038240" y="1832040"/>
            <a:ext cx="69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prememba OP ROP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Sep 2013 – ODPOVED projekta „Izgradnja potniškega terminala na letališču Jožeta Pučnika Ljubljana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“ v višini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KREP OU – SPREMEMBA OP ROPI – prenos sredstev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15.035.897 EUR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P ROPI na OP RR – znižanje potencialnega tveganja izgube sredstev konec leta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1579680" y="120168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Ključni dogodki v letu 2013 v okviru OP RO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jeZBesedilom 2"/>
          <p:cNvSpPr/>
          <p:nvPr/>
        </p:nvSpPr>
        <p:spPr>
          <a:xfrm>
            <a:off x="1038240" y="1832040"/>
            <a:ext cx="691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Velik dogod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ostavili aktivnosti na železniški infrastrukt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stnost lokalne skupnosti (prevoz šolarjev), prisotnost 2 Ministrov, odmev v medij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6. septembra 2013 - organiziranega ogleda delovišč na odseku železniške proge  Pragersko–Hod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C:\Users\mdragar\AppData\Local\Microsoft\Windows\Temporary Internet Files\Content.IE5\ZLA96Y0X\DSC_2560[1].JPG"/>
          <p:cNvPicPr/>
          <p:nvPr/>
        </p:nvPicPr>
        <p:blipFill>
          <a:blip r:embed="rId1"/>
          <a:stretch/>
        </p:blipFill>
        <p:spPr>
          <a:xfrm>
            <a:off x="826920" y="430524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mdragar\AppData\Local\Microsoft\Windows\Temporary Internet Files\Content.IE5\EO7YWAEP\DSC_2571[1].JPG"/>
          <p:cNvPicPr/>
          <p:nvPr/>
        </p:nvPicPr>
        <p:blipFill>
          <a:blip r:embed="rId2"/>
          <a:stretch/>
        </p:blipFill>
        <p:spPr>
          <a:xfrm>
            <a:off x="4859280" y="4305240"/>
            <a:ext cx="3703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ravokotnik 1"/>
          <p:cNvSpPr/>
          <p:nvPr/>
        </p:nvSpPr>
        <p:spPr>
          <a:xfrm>
            <a:off x="2757600" y="1425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Finančni napredek v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jeZBesedilom 3"/>
          <p:cNvSpPr/>
          <p:nvPr/>
        </p:nvSpPr>
        <p:spPr>
          <a:xfrm>
            <a:off x="1038240" y="2144880"/>
            <a:ext cx="691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Arial"/>
              </a:rPr>
              <a:t>Do 30.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ZPLAČILA iz proračuna RS: 77.740.342 EUR – EU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TORIZIRANO: 65 mio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ILJ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 letu 2014 potrebno certific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OHEZIJSKI SKLAD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5.812.569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OP ROPI – ESRR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.183.621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G:\DEKP\podrocje Kohezijski sklad\Fotke Ilirska Bistrica\WP_20140322_003.jpg"/>
          <p:cNvPicPr/>
          <p:nvPr/>
        </p:nvPicPr>
        <p:blipFill>
          <a:blip r:embed="rId1"/>
          <a:stretch/>
        </p:blipFill>
        <p:spPr>
          <a:xfrm rot="20958600">
            <a:off x="863280" y="1293480"/>
            <a:ext cx="4141800" cy="232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mdragar\Desktop\Picture 203.jpg"/>
          <p:cNvPicPr/>
          <p:nvPr/>
        </p:nvPicPr>
        <p:blipFill>
          <a:blip r:embed="rId2"/>
          <a:stretch/>
        </p:blipFill>
        <p:spPr>
          <a:xfrm>
            <a:off x="4716360" y="84924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mdragar\Desktop\Picture 343.jpg"/>
          <p:cNvPicPr/>
          <p:nvPr/>
        </p:nvPicPr>
        <p:blipFill>
          <a:blip r:embed="rId3"/>
          <a:stretch/>
        </p:blipFill>
        <p:spPr>
          <a:xfrm>
            <a:off x="611280" y="3981600"/>
            <a:ext cx="3779640" cy="2835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mdragar\Desktop\Picture 339.jpg"/>
          <p:cNvPicPr/>
          <p:nvPr/>
        </p:nvPicPr>
        <p:blipFill>
          <a:blip r:embed="rId4"/>
          <a:stretch/>
        </p:blipFill>
        <p:spPr>
          <a:xfrm>
            <a:off x="4626000" y="3968640"/>
            <a:ext cx="361800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Grafikon 6" descr=""/>
          <p:cNvPicPr/>
          <p:nvPr/>
        </p:nvPicPr>
        <p:blipFill>
          <a:blip r:embed="rId1"/>
          <a:stretch/>
        </p:blipFill>
        <p:spPr>
          <a:xfrm>
            <a:off x="1116000" y="2000160"/>
            <a:ext cx="64803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857160" y="2279520"/>
            <a:ext cx="7077240" cy="38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58920" y="2362320"/>
            <a:ext cx="67546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76360" y="2073240"/>
            <a:ext cx="60642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185840" y="2217600"/>
            <a:ext cx="64213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289160" y="1879560"/>
            <a:ext cx="6215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2197440" y="1425600"/>
            <a:ext cx="43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92d050"/>
                </a:solidFill>
                <a:latin typeface="Arial"/>
              </a:rPr>
              <a:t>Pregled FINANČNEGA NAPRE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198440" y="2073240"/>
            <a:ext cx="639612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dcterms:modified xsi:type="dcterms:W3CDTF">2014-05-21T08:57:37Z</dcterms:modified>
  <cp:revision>46</cp:revision>
  <dc:subject/>
  <dc:title>Naslov</dc:title>
</cp:coreProperties>
</file>